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821B69-AF28-4A5F-A059-E0653E50DC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FDAC22-AC6D-4E9E-8787-19826BB64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B0A7C3-7707-4D37-93C7-E976F6E2D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43B-62D7-4909-ACF6-28B07616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55B-6A1A-4FDE-BEBE-F6D9D4A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6B2-9127-468B-B6F5-5EEE649C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F0D-5635-45DF-BB77-A69F4965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F8C-572B-4150-9294-13E071F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920-F597-4FEF-806E-9E2CFD2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F17-E418-4BDE-B8E7-8DED96F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5CB-8A9B-4AE1-A470-4EB2706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210-73A1-4902-A6F5-F988634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52B-70D6-4D24-9024-FE166BF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A9D-DC87-47F1-B4DB-9854753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C4-8344-4786-9C88-89F8684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569650-9B36-4EE8-90F4-A8BE26C3DD6B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312A04-47C6-49FD-B744-C846124F1124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Ver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6 pictures.  Use a verb that names an action in 3 pictures (ex: run, talk, smile) and a verb that can’t be seen in the other 3 pictures (ex: think, worry, he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Two-Syllable Wor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 your spelling words into syllabl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x: sister – sis/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Word Famili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ose 5 words from the text and write word families.  Use the following endings:  est, ing, ly, ful, less, er, 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ex:  care, careful, careless, caring, car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ents must write an opinion paragraph about whether they should help parents make rules at home.  They must give 2 reasons for their opinion and support each reason with 2 details/examples as to why they think/feel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Brothers and Sisters 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0:51:53Z</dcterms:created>
  <dc:creator> </dc:creator>
  <dc:description/>
  <dc:language>en-US</dc:language>
  <cp:lastModifiedBy>Kathryn Cobb</cp:lastModifiedBy>
  <cp:lastPrinted>2009-03-12T10:54:35Z</cp:lastPrinted>
  <dcterms:modified xsi:type="dcterms:W3CDTF">2009-03-12T15:33:31Z</dcterms:modified>
  <cp:revision>9</cp:revision>
  <dc:subject/>
  <dc:title>Slide 1</dc:title>
</cp:coreProperties>
</file>